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23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27.jpeg" ContentType="image/jpeg"/>
  <Override PartName="/ppt/media/image28.wmf" ContentType="image/x-wmf"/>
  <Override PartName="/ppt/media/image5.png" ContentType="image/png"/>
  <Override PartName="/ppt/media/image4.png" ContentType="image/png"/>
  <Override PartName="/ppt/media/image3.png" ContentType="image/png"/>
  <Override PartName="/ppt/media/image26.jpeg" ContentType="image/jpeg"/>
  <Override PartName="/ppt/media/image25.png" ContentType="image/pn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7BA3-D180-4E5A-B563-C1F9CA61B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E8ED-F284-4E6F-9955-533BACEA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E4F4-270D-4C02-A465-8C06DA467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1613-3B01-4105-8637-87D1CBE38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E577-C3DE-4F68-A560-6C83D1ABF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87D4-28EF-45C5-9A1F-30ED7784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3855-151A-4F70-969C-39636244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B30F-F4C1-4BA5-9E80-853726B1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3928-42C0-4E26-9378-8B187B9A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1116-4775-43A7-9E89-45CF4DE5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AE1E-6208-4ABD-845F-D252F8B7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46AA-9652-42DD-B59D-32C8D2A1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4FC9-24FE-48C6-97B0-DA59F3D9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2D97-10BE-4B1F-859C-94E3CB52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ED50-70CF-468E-AA69-4D662532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46BF-6BA1-4264-8FE7-E3B722183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0413-D2B0-4D0D-A6DD-7EF1CEAC1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BF5F9-BBFA-4EEB-8DB6-0443DF63B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83B79-573B-4923-8A3E-EC7C35E6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C5EBF-FE6C-4412-AA34-723F03C2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BCECC-53BC-4C63-B8FF-61F56E70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12364-134D-4DF1-8037-2894B9E2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61C8-46D7-4BB6-97CE-E6762651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8A3BA-4167-4DF1-8191-B106C327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8471A-1A6D-4567-8CD8-DE868A31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D1D7B-D8DF-45E3-AE53-0447835E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1BC70-78CD-4C2B-AA6D-C54E5943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AE9CF-1561-4DC3-8C57-2AB40F7C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3085E-8E4B-4FA9-AF75-46895CC82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8FE32-A6A4-490F-BB60-07265C7B2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C0729-0F39-419A-ACE1-DF1B52FAC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FF350-4F45-4D59-866C-21EB24CD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0852E-FC0D-4430-A1D8-A92DDD06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E424-CBC7-4D92-A26C-008DB53B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FBEB4-1793-4A02-94E4-A9A47659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259A5-15B3-4507-8588-4DD15659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B5B36-84DE-4467-9348-C9ED60ED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E44A0-9531-46E8-A4CA-D72EC2E4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45769-2CA9-4332-AEF2-74F89234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45A50-F579-45EF-BCB2-0DA6D2C1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AD6D5-8D0A-4A8B-97DC-1D6D24D9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AF1E1-5E16-430A-A963-404B39247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1520F-7029-451D-AEA4-43166E32F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D345-8C57-43F0-ACAA-6F1A0612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B512-5C4C-42BD-AF08-F01B684B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A235-9AF9-4255-9416-6800ED79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B5EA-0183-4536-9CE6-6B8AD8EC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BEBF-17BD-45BE-B95B-57232C37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F64C-E85C-403B-9C42-3A67FC6F954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8795-C598-4323-92A1-5F050E476DE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e6b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4059-557A-4038-89D5-A7FCE9618384}" type="slidenum">
              <a:rPr b="0" lang="es-E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24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6C51-12CF-47E2-9EE5-889010A28ED2}" type="slidenum">
              <a:rPr b="0" lang="es-E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0" y="5334120"/>
            <a:ext cx="9143640" cy="2423520"/>
            <a:chOff x="0" y="5334120"/>
            <a:chExt cx="9143640" cy="2423520"/>
          </a:xfrm>
        </p:grpSpPr>
        <p:sp>
          <p:nvSpPr>
            <p:cNvPr id="180" name=""/>
            <p:cNvSpPr/>
            <p:nvPr/>
          </p:nvSpPr>
          <p:spPr>
            <a:xfrm>
              <a:off x="0" y="5334120"/>
              <a:ext cx="914364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200" spc="-1" strike="noStrike">
                  <a:solidFill>
                    <a:srgbClr val="333399"/>
                  </a:solidFill>
                  <a:latin typeface="Arial"/>
                </a:rPr>
                <a:t>GT Reuso : Modalidades para reúso direto não potável de Água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20120" y="7372440"/>
              <a:ext cx="4703400" cy="38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362320" y="6172200"/>
            <a:ext cx="6400800" cy="757080"/>
            <a:chOff x="2362320" y="6172200"/>
            <a:chExt cx="6400800" cy="757080"/>
          </a:xfrm>
        </p:grpSpPr>
        <p:sp>
          <p:nvSpPr>
            <p:cNvPr id="183" name=""/>
            <p:cNvSpPr/>
            <p:nvPr/>
          </p:nvSpPr>
          <p:spPr>
            <a:xfrm>
              <a:off x="2362320" y="6172200"/>
              <a:ext cx="6400800" cy="14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Prof. Demetrios Christofid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913920" y="6562440"/>
              <a:ext cx="3297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4651200" y="471600"/>
            <a:ext cx="181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90000" tIns="8892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228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UTILIZAÇÃO AGRÍCOLA DE EFLUENTES DE LAGOAS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DE ESTABILIZ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55627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Proposta de Resolução do CNRH para fins agrícolas e florestais (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934320" cy="44769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28600" y="152280"/>
            <a:ext cx="8001000" cy="61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I Reunião – GT Reúso: Brasília ( 20/09/06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ticiparam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36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presentantes de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20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institui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MA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N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S/FUNAS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   MAP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C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IESP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SP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ER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ABESP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AESB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IOCRU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ETROBRAS             CNI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LABORE-Consult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CBR                        Comitê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MARH – DF           A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7162920" y="4343400"/>
            <a:ext cx="114300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28600" y="152280"/>
            <a:ext cx="8686800" cy="57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32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Times New Roman"/>
              </a:rPr>
              <a:t>II Reunião do GT Reúso : Vídeo Conferência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( 26/10/2006 )</a:t>
            </a:r>
            <a:r>
              <a:rPr b="1" lang="pt-BR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São Paulo; Brasília; Curitiba e Rio de Janeir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32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ticiparam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46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presentantes de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33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institui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2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MA                           AN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MI                         SUDERH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2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/FUNAS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AP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MCIDADES         SEC. SAUDE 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2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FIESP                          USP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UERJ                     EMBRAPA SO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2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ABESP                     CAESB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FIOCRUZ             CED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2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ETROBRAS             CNI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CNA                      SANE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2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LABORE-Consult.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TCBR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              Comitês                 EM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2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EMARH – DF          ABES                        CETE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2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AC-Campinas            UFPR                        FIRJ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2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NFCN                      UNICA/CTC             INME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781680" y="4724280"/>
            <a:ext cx="1143000" cy="14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839440" cy="404964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228600" y="54864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imes New Roman"/>
              </a:rPr>
              <a:t>A terceira  reunião do GT Reuso : CNRH,  será realizada  na FIESP com Ponto principal em Brasília, em Video Conferência : São Paulo, Curitiba, Rio de Janei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9280" y="57340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28600"/>
            <a:ext cx="9144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Arial"/>
              </a:rPr>
              <a:t>Houve uma reunião de apoio na representação da OPAS/OMS, dia 16/nov/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 uma do grupo de Coordenação no dia 22/nov/2006, para consolidar sugest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763120" cy="35622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0" y="152280"/>
            <a:ext cx="8964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6666"/>
                </a:solidFill>
                <a:latin typeface="Times New Roman"/>
              </a:rPr>
              <a:t>“</a:t>
            </a:r>
            <a:r>
              <a:rPr b="1" i="1" lang="pt-BR" sz="2800" spc="-1" strike="noStrike">
                <a:solidFill>
                  <a:srgbClr val="006666"/>
                </a:solidFill>
                <a:latin typeface="Times New Roman"/>
              </a:rPr>
              <a:t>A natureza jamais quebra suas próprias leis.”</a:t>
            </a:r>
            <a:r>
              <a:rPr b="1" lang="pt-BR" sz="2400" spc="-1" strike="noStrike">
                <a:solidFill>
                  <a:srgbClr val="006666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ab475"/>
                </a:solidFill>
                <a:latin typeface="Times New Roman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ab475"/>
                </a:solidFill>
                <a:latin typeface="Times New Roman"/>
              </a:rPr>
              <a:t>                                                                 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Leonardo da Vinci ( 1452- 1519 )</a:t>
            </a:r>
            <a:r>
              <a:rPr b="1" lang="en-US" sz="2000" spc="-1" strike="noStrike">
                <a:solidFill>
                  <a:srgbClr val="6ab475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191120" y="5791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e6b"/>
                </a:solidFill>
                <a:latin typeface="Arial"/>
              </a:rPr>
              <a:t>christofidis@unb.br                    ou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e6b"/>
                </a:solidFill>
                <a:latin typeface="Arial"/>
              </a:rPr>
              <a:t>demetriosugpo2002@yahoo.com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Cloud"/>
          <p:cNvSpPr/>
          <p:nvPr/>
        </p:nvSpPr>
        <p:spPr>
          <a:xfrm>
            <a:off x="6934320" y="90360"/>
            <a:ext cx="2209680" cy="10303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0920" y="189000"/>
            <a:ext cx="52578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A DINÂMICA DA GESTÃO DOS RECURSOS HÍDRICOS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MOVIMENTOS DO GESTOR DE ÁGUAS EFETIV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6320" y="266688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33520" y="2905200"/>
            <a:ext cx="4952880" cy="914400"/>
          </a:xfrm>
          <a:custGeom>
            <a:avLst/>
            <a:gdLst/>
            <a:ahLst/>
            <a:rect l="l" t="t" r="r" b="b"/>
            <a:pathLst>
              <a:path w="3120" h="576">
                <a:moveTo>
                  <a:pt x="0" y="0"/>
                </a:moveTo>
                <a:cubicBezTo>
                  <a:pt x="604" y="0"/>
                  <a:pt x="1208" y="0"/>
                  <a:pt x="1728" y="96"/>
                </a:cubicBezTo>
                <a:cubicBezTo>
                  <a:pt x="2248" y="192"/>
                  <a:pt x="2888" y="496"/>
                  <a:pt x="3120" y="57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33520" y="1966680"/>
            <a:ext cx="4952880" cy="914400"/>
          </a:xfrm>
          <a:custGeom>
            <a:avLst/>
            <a:gdLst/>
            <a:ahLst/>
            <a:rect l="l" t="t" r="r" b="b"/>
            <a:pathLst>
              <a:path w="3120" h="576">
                <a:moveTo>
                  <a:pt x="0" y="0"/>
                </a:moveTo>
                <a:cubicBezTo>
                  <a:pt x="604" y="0"/>
                  <a:pt x="1208" y="0"/>
                  <a:pt x="1728" y="96"/>
                </a:cubicBezTo>
                <a:cubicBezTo>
                  <a:pt x="2248" y="192"/>
                  <a:pt x="2888" y="496"/>
                  <a:pt x="3120" y="576"/>
                </a:cubicBezTo>
              </a:path>
            </a:pathLst>
          </a:custGeom>
          <a:noFill/>
          <a:ln w="19080">
            <a:solidFill>
              <a:srgbClr val="3399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2895480"/>
            <a:ext cx="5029200" cy="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05520" y="4876920"/>
            <a:ext cx="3733560" cy="19810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267080" y="266688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0" y="144"/>
                </a:moveTo>
                <a:cubicBezTo>
                  <a:pt x="36" y="132"/>
                  <a:pt x="72" y="120"/>
                  <a:pt x="96" y="96"/>
                </a:cubicBezTo>
                <a:cubicBezTo>
                  <a:pt x="120" y="72"/>
                  <a:pt x="136" y="16"/>
                  <a:pt x="144" y="0"/>
                </a:cubicBezTo>
              </a:path>
            </a:pathLst>
          </a:custGeom>
          <a:solidFill>
            <a:srgbClr val="ff9900"/>
          </a:solidFill>
          <a:ln w="1908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266688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0" y="144"/>
                </a:moveTo>
                <a:cubicBezTo>
                  <a:pt x="36" y="132"/>
                  <a:pt x="72" y="120"/>
                  <a:pt x="96" y="96"/>
                </a:cubicBezTo>
                <a:cubicBezTo>
                  <a:pt x="120" y="72"/>
                  <a:pt x="136" y="16"/>
                  <a:pt x="144" y="0"/>
                </a:cubicBezTo>
              </a:path>
            </a:pathLst>
          </a:custGeom>
          <a:solidFill>
            <a:srgbClr val="ff9900"/>
          </a:solidFill>
          <a:ln w="1908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876920" y="266688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0" y="144"/>
                </a:moveTo>
                <a:cubicBezTo>
                  <a:pt x="36" y="132"/>
                  <a:pt x="72" y="120"/>
                  <a:pt x="96" y="96"/>
                </a:cubicBezTo>
                <a:cubicBezTo>
                  <a:pt x="120" y="72"/>
                  <a:pt x="136" y="16"/>
                  <a:pt x="144" y="0"/>
                </a:cubicBezTo>
              </a:path>
            </a:pathLst>
          </a:custGeom>
          <a:solidFill>
            <a:srgbClr val="ff9900"/>
          </a:solidFill>
          <a:ln w="1908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105520" y="266688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0" y="144"/>
                </a:moveTo>
                <a:cubicBezTo>
                  <a:pt x="36" y="132"/>
                  <a:pt x="72" y="120"/>
                  <a:pt x="96" y="96"/>
                </a:cubicBezTo>
                <a:cubicBezTo>
                  <a:pt x="120" y="72"/>
                  <a:pt x="136" y="16"/>
                  <a:pt x="144" y="0"/>
                </a:cubicBezTo>
              </a:path>
            </a:pathLst>
          </a:custGeom>
          <a:solidFill>
            <a:srgbClr val="ff9900"/>
          </a:solidFill>
          <a:ln w="1908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86200" y="3994200"/>
            <a:ext cx="30481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 que fazer 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3520" y="2286000"/>
            <a:ext cx="27432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 FUTURO DA GESTÃO DA ÁGU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115040" y="152280"/>
            <a:ext cx="182880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PAÇO DE IMUNIDADE E SUSTENTABILID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943600" y="5410080"/>
            <a:ext cx="205740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PAÇO DE VULNERABILIDADE E INSUSTENTABILID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5580000" y="0"/>
            <a:ext cx="1146240" cy="10666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91520" y="4375080"/>
            <a:ext cx="167616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ução das perdas Quantitativ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EFICIÊ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391520" y="3460680"/>
            <a:ext cx="167616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ução das perdas Qualitativ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EFICÁ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162920" y="2637000"/>
            <a:ext cx="19810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O,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EUSO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VITANDO O ABU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467480" y="3124080"/>
            <a:ext cx="167652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iclagem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705720" y="2293920"/>
            <a:ext cx="24382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TRUMENTOS DE GEST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05720" y="1843200"/>
            <a:ext cx="24382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TENCIALIDADES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C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705720" y="1447920"/>
            <a:ext cx="24382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POSIÇÃO DE ÁGU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467480" y="1143000"/>
            <a:ext cx="13716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EFETIVID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67120" y="5114880"/>
            <a:ext cx="24058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DANÇAS DE PARADIG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-36360" y="5870520"/>
            <a:ext cx="532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VO MUNDO COMEÇA A SER DELINEADO PELA ELIMINAÇÃO DO INADEQUADO DO MUNDO ATUAL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228600" y="0"/>
            <a:ext cx="8915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úso de água residuária na agricultu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r  problema sanitário em alimento e chance de melhoria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79280" y="1197000"/>
            <a:ext cx="5327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809880" y="5334120"/>
            <a:ext cx="53341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ISC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ssociados ao Reú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cos aos irrigantes e consum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minação de águas   subterrân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1052640"/>
            <a:ext cx="3635280" cy="54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enefí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ixo custo sanitário da disposiçao dos resíduos líquidos municip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ervação da águ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dução da poluição dos rios, canais e outras águas superficia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ervação dos nutrientes:  reduz a necessidade de fertiliz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umento  da produtividade dos cul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antia de oferta de á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" y="624852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6200"/>
                </a:solidFill>
                <a:latin typeface="Arial"/>
                <a:ea typeface="Arial"/>
              </a:rPr>
              <a:t>Fonte: Frank Rijsberman</a:t>
            </a:r>
            <a:r>
              <a:rPr b="1" lang="en-GB" sz="1600" spc="-1" strike="noStrike">
                <a:solidFill>
                  <a:srgbClr val="006200"/>
                </a:solidFill>
                <a:latin typeface="Arial"/>
                <a:ea typeface="Arial"/>
              </a:rPr>
              <a:t> </a:t>
            </a:r>
            <a:r>
              <a:rPr b="1" lang="en-GB" sz="1400" spc="-1" strike="noStrike">
                <a:solidFill>
                  <a:srgbClr val="006200"/>
                </a:solidFill>
                <a:latin typeface="Arial"/>
                <a:ea typeface="Arial"/>
              </a:rPr>
              <a:t>(WWW,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9"/>
          <a:stretch/>
        </p:blipFill>
        <p:spPr>
          <a:xfrm>
            <a:off x="3657600" y="812880"/>
            <a:ext cx="525780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764640" y="0"/>
            <a:ext cx="731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Qual deles é cultivado com água residuári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04920" y="304920"/>
            <a:ext cx="8458200" cy="62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SSUNTOS TRATA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eríodo da manhã - Apresentaçõ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Propósitos do GT, expectativas e resultados esperados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emetrios Christofidis / MI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Retrospectiva dos trabalhos realizados na fase que antecedeu a Resolução CNRH nº 54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” – João Marcelo / TC/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 visão da ANA para o Reúso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” – Devanir dos Santos / 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 experiência internacional / A proposta e os padrões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Ivanildo Hespanhol / USP-CI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Potencial de reúso de água no Brasil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” – Américo Sampaio / SAB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7543800" y="304920"/>
            <a:ext cx="114300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04920" y="685800"/>
            <a:ext cx="883908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eríodo da tar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oposta para Resolução de Reuso para fins Agrícolas e Florest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ase: Propostas apresentadas pelo Prof. Ivanildo Hespan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INU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Considerandos da Proposta CNRH)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 Resolução estabelece procedimentos para disciplinar a prática de reuso direto não potável de água na modalidade definida na Resolução CNRH n. 54 de 28 de novembro de 2005 Art. 3. inciso II –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so para fins agrícolas e florestais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plicação de água de reuso para produção agrícola e cultivo de florestas plant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7543800" y="228600"/>
            <a:ext cx="1047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04920" y="152280"/>
            <a:ext cx="8610480" cy="65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. 2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diretrizes de qualidade consideradas nesta Resoluçã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spondem aos seguintes tipos de cultiv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Tipo: Fins Floresta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 Tipo: Fins Agrícol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   Forragens, fibras, culturas com semente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.  Ingeridas após processamento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. Pomares e vinhas; 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. Ingeridas cru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     Tipo: Irrigação Urba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  Áreas verdes com acesso restrito, faixas de segurança, faixas decorativas em estradas e ocupação controlada; , e outros a critério do órgão competente.</a:t>
            </a:r>
            <a:r>
              <a:rPr b="1" lang="pt-BR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.   Áreas verdes com acesso irrestrito; campos esportivos; praças; jardins; cinturões verdes; cemitérios, e outras a critério do órgão competent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7696080" y="609480"/>
            <a:ext cx="1143000" cy="14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2665440" y="1468440"/>
            <a:ext cx="6356160" cy="830160"/>
            <a:chOff x="2665440" y="1468440"/>
            <a:chExt cx="6356160" cy="83016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2665440" y="1468440"/>
              <a:ext cx="635616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2755800" y="1557360"/>
              <a:ext cx="626580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 Lei nº 9.433, de 1997, que dispõe sobre a Política Nacional de Recursos Hídricos e cria o Sistema Nacional de Gerenciamento de Recursos Hídricos - SINGREH, dá ênfase ao uso sustentável da águ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52640" y="1865160"/>
            <a:ext cx="717480" cy="180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47600" y="1544760"/>
            <a:ext cx="1747800" cy="1017360"/>
            <a:chOff x="147600" y="1544760"/>
            <a:chExt cx="1747800" cy="1017360"/>
          </a:xfrm>
        </p:grpSpPr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147600" y="1544760"/>
              <a:ext cx="174780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236520" y="1633680"/>
              <a:ext cx="165744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1º Considerando</a:t>
              </a: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2665440" y="3505320"/>
            <a:ext cx="6356160" cy="1042920"/>
            <a:chOff x="2665440" y="3505320"/>
            <a:chExt cx="6356160" cy="1042920"/>
          </a:xfrm>
        </p:grpSpPr>
        <p:pic>
          <p:nvPicPr>
            <p:cNvPr id="197" name="" descr=""/>
            <p:cNvPicPr/>
            <p:nvPr/>
          </p:nvPicPr>
          <p:blipFill>
            <a:blip r:embed="rId3"/>
            <a:stretch/>
          </p:blipFill>
          <p:spPr>
            <a:xfrm>
              <a:off x="2665440" y="3505320"/>
              <a:ext cx="635616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2755800" y="3594240"/>
              <a:ext cx="62658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 diretriz adotada pelo Conselho Econômico e Social da Organização das Nações Unidas – ONU, segundo a qual, a não ser que haja grande disponibilidade, nenhuma água de boa qualidade deverá ser utilizada em atividades que tolerem águas de qualidade inferior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52640" y="3902040"/>
            <a:ext cx="717480" cy="180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47600" y="3579840"/>
            <a:ext cx="1747800" cy="1018800"/>
            <a:chOff x="147600" y="3579840"/>
            <a:chExt cx="1747800" cy="1018800"/>
          </a:xfrm>
        </p:grpSpPr>
        <p:pic>
          <p:nvPicPr>
            <p:cNvPr id="201" name="" descr=""/>
            <p:cNvPicPr/>
            <p:nvPr/>
          </p:nvPicPr>
          <p:blipFill>
            <a:blip r:embed="rId4"/>
            <a:stretch/>
          </p:blipFill>
          <p:spPr>
            <a:xfrm>
              <a:off x="147600" y="3579840"/>
              <a:ext cx="174780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36520" y="3670200"/>
              <a:ext cx="165744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3º Considerando</a:t>
              </a: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665440" y="4627440"/>
            <a:ext cx="6356160" cy="1042920"/>
            <a:chOff x="2665440" y="4627440"/>
            <a:chExt cx="6356160" cy="1042920"/>
          </a:xfrm>
        </p:grpSpPr>
        <p:pic>
          <p:nvPicPr>
            <p:cNvPr id="204" name="" descr=""/>
            <p:cNvPicPr/>
            <p:nvPr/>
          </p:nvPicPr>
          <p:blipFill>
            <a:blip r:embed="rId5"/>
            <a:stretch/>
          </p:blipFill>
          <p:spPr>
            <a:xfrm>
              <a:off x="2665440" y="4627440"/>
              <a:ext cx="635616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2755800" y="4716360"/>
              <a:ext cx="62658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o reúso de água que se constitui em prática de racionalização e de conservação de recursos hídricos, conforme princípios estabelecidos na Agenda 21, podendo tal prática ser utilizada como instrumento para regular a oferta e a demanda de recursos hídric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952640" y="5024520"/>
            <a:ext cx="717480" cy="144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47600" y="4703760"/>
            <a:ext cx="1747800" cy="1017360"/>
            <a:chOff x="147600" y="4703760"/>
            <a:chExt cx="1747800" cy="1017360"/>
          </a:xfrm>
        </p:grpSpPr>
        <p:pic>
          <p:nvPicPr>
            <p:cNvPr id="208" name="" descr=""/>
            <p:cNvPicPr/>
            <p:nvPr/>
          </p:nvPicPr>
          <p:blipFill>
            <a:blip r:embed="rId6"/>
            <a:stretch/>
          </p:blipFill>
          <p:spPr>
            <a:xfrm>
              <a:off x="147600" y="4703760"/>
              <a:ext cx="174780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236520" y="4792680"/>
              <a:ext cx="165744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4º Considerando</a:t>
              </a: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47600" y="2482920"/>
            <a:ext cx="1747800" cy="1018800"/>
            <a:chOff x="147600" y="2482920"/>
            <a:chExt cx="1747800" cy="1018800"/>
          </a:xfrm>
        </p:grpSpPr>
        <p:pic>
          <p:nvPicPr>
            <p:cNvPr id="211" name="" descr=""/>
            <p:cNvPicPr/>
            <p:nvPr/>
          </p:nvPicPr>
          <p:blipFill>
            <a:blip r:embed="rId7"/>
            <a:stretch/>
          </p:blipFill>
          <p:spPr>
            <a:xfrm>
              <a:off x="147600" y="2482920"/>
              <a:ext cx="174780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236520" y="2573280"/>
              <a:ext cx="165744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2º Considerando</a:t>
              </a: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655720" y="2386080"/>
            <a:ext cx="6356160" cy="1042920"/>
            <a:chOff x="2655720" y="2386080"/>
            <a:chExt cx="6356160" cy="1042920"/>
          </a:xfrm>
        </p:grpSpPr>
        <p:pic>
          <p:nvPicPr>
            <p:cNvPr id="214" name="" descr=""/>
            <p:cNvPicPr/>
            <p:nvPr/>
          </p:nvPicPr>
          <p:blipFill>
            <a:blip r:embed="rId8"/>
            <a:stretch/>
          </p:blipFill>
          <p:spPr>
            <a:xfrm>
              <a:off x="2655720" y="2386080"/>
              <a:ext cx="635616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2746080" y="2475000"/>
              <a:ext cx="62658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 Década Brasileira da Àgua, instituida pelo Decreto de 22 de março de 2005 com o objetivo de promover e intensificar a formulação de políticas, programas e projetos relativos ao gerenciamento e uso sustentável da águ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1943280" y="2782800"/>
            <a:ext cx="717480" cy="180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380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RESOLUÇÃO CNRH Nº 54, de 28 de novembro de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66760" y="135000"/>
            <a:ext cx="8610480" cy="66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. 3 As diretrizes de qualidade microbiológicas da água de reúso para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s agrícolas e florestais são: </a:t>
            </a:r>
            <a:r>
              <a:rPr b="1" lang="pt-BR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não deixar de considerar água provenient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 dejetos animais)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ia A: Irrigação de culturas a serem ingeridas cruas, campos esportivos, parques públic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os de risco: Operários, consumidores, públic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os de helmintos: 1 ovo por litr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iformes termotolerantes (NMP/100ml): 1.0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de tratamento recomendado para atingir qualidade microbiológica:   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goas de estabilização em série, tratamento equivalent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ia B: Irrigação de cereais, culturas industriais, forragem, pastos, cultivos perenes e árvore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os de risco: Operári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os de helmintos: 1 ovo por litr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de tratamento recomendado para atingir qualidade 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biológica: Retenção em lagoas de estabilização por 8 a 10 dias,  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ção equivalente de helmintos e coliformes fecai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7391520" y="1905120"/>
            <a:ext cx="114300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76320"/>
            <a:ext cx="8915400" cy="63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. 4 As variáveis de qualidade físico e química da água de reúso para fin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rícolas e florestais são: </a:t>
            </a:r>
            <a:r>
              <a:rPr b="1" lang="pt-BR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não deixar de considerar água proveniente de dejetos animai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1" lang="pt-BR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pt-BR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1" lang="pt-BR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pH entre 6 e 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355680"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Condutividade elétrica: EC (dS/m) &lt; 3,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355680"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SDT (mg/l) &lt; 15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355680"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Razão de Adsorção de Sódio - RAS: para irrigação superficial entre 3 e 9; para irrigação por aspersão RAS superiores a 3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355680"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 Cloretos - Para irrigação superficial inferior a 350 mg/l e para irrigação por aspersão inferior a 100 mg/l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355680"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loro residual total máximo de 1 mg/l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355680"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Boro – 0,7 mg/l, para culturas alimentícias e de até 3,0 mg/l para irrigação de jardim e similares. </a:t>
            </a:r>
            <a:r>
              <a:rPr b="1" lang="pt-BR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analisar a respeito do BORO, </a:t>
            </a:r>
            <a:r>
              <a:rPr b="1" lang="pt-BR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MBRADO PELA SABESP</a:t>
            </a:r>
            <a:r>
              <a:rPr b="1" lang="pt-BR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355680"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Nitrogênio total – entre 5 e 30 mg/l </a:t>
            </a:r>
            <a:r>
              <a:rPr b="1" lang="pt-BR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DISCUTIR SOBRE O NITROGÊNIO AMONIACA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355680"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) DBO &lt; 20 mg/l </a:t>
            </a:r>
            <a:r>
              <a:rPr b="1" lang="pt-BR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de 10 a 80: Fonseca 2006; Agricultural Water Management XXX-2006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355680"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) SST: de 10 a 80 mg/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355680"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) INVESTIGAR o 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7696080" y="380880"/>
            <a:ext cx="1143000" cy="14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66760" y="1295280"/>
            <a:ext cx="8610480" cy="39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ia C: Irrigação pelo método localizada </a:t>
            </a:r>
            <a:r>
              <a:rPr b="1" lang="pt-BR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?)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culturas da categoria B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os de risco: Nenhu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-tratamento requerido pela irrigação localizada não menos do que tratamento primári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: Definir exposição do trabalhador e formas de proteçã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ia D: Cultivos destinados à produção de agroenergético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"/>
          <p:cNvGraphicFramePr/>
          <p:nvPr/>
        </p:nvGraphicFramePr>
        <p:xfrm>
          <a:off x="457200" y="380880"/>
          <a:ext cx="8229600" cy="647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22960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"/>
          <p:cNvSpPr/>
          <p:nvPr/>
        </p:nvSpPr>
        <p:spPr>
          <a:xfrm>
            <a:off x="990720" y="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. 5 Os elementos traços da água de reúso para fins agrícolas e florestais sã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2665440" y="1019160"/>
            <a:ext cx="6354720" cy="828720"/>
            <a:chOff x="2665440" y="1019160"/>
            <a:chExt cx="6354720" cy="82872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2665440" y="1019160"/>
              <a:ext cx="63547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2755440" y="1107720"/>
              <a:ext cx="626436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 escassez de recursos hídricos observada em certas regiões do território nacional, a qual está relacionada aos aspectos de quantidade e de qualidad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1952640" y="1415880"/>
            <a:ext cx="717480" cy="180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47600" y="1095480"/>
            <a:ext cx="1747800" cy="861120"/>
            <a:chOff x="147600" y="1095480"/>
            <a:chExt cx="1747800" cy="861120"/>
          </a:xfrm>
        </p:grpSpPr>
        <p:pic>
          <p:nvPicPr>
            <p:cNvPr id="223" name="" descr=""/>
            <p:cNvPicPr/>
            <p:nvPr/>
          </p:nvPicPr>
          <p:blipFill>
            <a:blip r:embed="rId2"/>
            <a:stretch/>
          </p:blipFill>
          <p:spPr>
            <a:xfrm>
              <a:off x="147600" y="1095480"/>
              <a:ext cx="174780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236520" y="1184400"/>
              <a:ext cx="1657440" cy="77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5º Considerando</a:t>
              </a: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1763640" y="2060640"/>
            <a:ext cx="561672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2665440" y="817560"/>
            <a:ext cx="6354720" cy="615960"/>
            <a:chOff x="2665440" y="817560"/>
            <a:chExt cx="6354720" cy="615960"/>
          </a:xfrm>
        </p:grpSpPr>
        <p:pic>
          <p:nvPicPr>
            <p:cNvPr id="227" name="" descr=""/>
            <p:cNvPicPr/>
            <p:nvPr/>
          </p:nvPicPr>
          <p:blipFill>
            <a:blip r:embed="rId1"/>
            <a:stretch/>
          </p:blipFill>
          <p:spPr>
            <a:xfrm>
              <a:off x="2665440" y="817560"/>
              <a:ext cx="635472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2755440" y="907560"/>
              <a:ext cx="6264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 elevação dos custos de tratamento de água em função da degradação de mananciais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952640" y="1216080"/>
            <a:ext cx="717480" cy="144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47600" y="895320"/>
            <a:ext cx="1747800" cy="1017360"/>
            <a:chOff x="147600" y="895320"/>
            <a:chExt cx="1747800" cy="1017360"/>
          </a:xfrm>
        </p:grpSpPr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147600" y="895320"/>
              <a:ext cx="174780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236520" y="984240"/>
              <a:ext cx="165744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6º Considerando</a:t>
              </a: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1295280" y="1706400"/>
            <a:ext cx="6477120" cy="487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2665440" y="1646280"/>
            <a:ext cx="6356160" cy="1042920"/>
            <a:chOff x="2665440" y="1646280"/>
            <a:chExt cx="6356160" cy="1042920"/>
          </a:xfrm>
        </p:grpSpPr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2665440" y="1646280"/>
              <a:ext cx="635616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2755800" y="1736640"/>
              <a:ext cx="62658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 prática de reúso de água que reduz a descarga de poluentes em corpos receptores, conservando os recursos hídricos para o abastecimento público e outros usos mais exigentes quanto à qualidade; 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1952640" y="2044800"/>
            <a:ext cx="717480" cy="144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47600" y="1724040"/>
            <a:ext cx="1747800" cy="1017360"/>
            <a:chOff x="147600" y="1724040"/>
            <a:chExt cx="1747800" cy="1017360"/>
          </a:xfrm>
        </p:grpSpPr>
        <p:pic>
          <p:nvPicPr>
            <p:cNvPr id="239" name="" descr=""/>
            <p:cNvPicPr/>
            <p:nvPr/>
          </p:nvPicPr>
          <p:blipFill>
            <a:blip r:embed="rId2"/>
            <a:stretch/>
          </p:blipFill>
          <p:spPr>
            <a:xfrm>
              <a:off x="147600" y="1724040"/>
              <a:ext cx="174780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236520" y="1812960"/>
              <a:ext cx="165744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7º Considerando</a:t>
              </a: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665440" y="3483000"/>
            <a:ext cx="6356160" cy="617400"/>
            <a:chOff x="2665440" y="3483000"/>
            <a:chExt cx="6356160" cy="617400"/>
          </a:xfrm>
        </p:grpSpPr>
        <p:pic>
          <p:nvPicPr>
            <p:cNvPr id="242" name="" descr=""/>
            <p:cNvPicPr/>
            <p:nvPr/>
          </p:nvPicPr>
          <p:blipFill>
            <a:blip r:embed="rId3"/>
            <a:stretch/>
          </p:blipFill>
          <p:spPr>
            <a:xfrm>
              <a:off x="2665440" y="3483000"/>
              <a:ext cx="6356160" cy="61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2755800" y="3573360"/>
              <a:ext cx="6265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 prática de reúso de água que reduz os custos associados à poluição e contribui para a proteção do meio ambiente e da saúde pública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952640" y="3881520"/>
            <a:ext cx="717480" cy="144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47600" y="3560760"/>
            <a:ext cx="1747800" cy="1017360"/>
            <a:chOff x="147600" y="3560760"/>
            <a:chExt cx="1747800" cy="1017360"/>
          </a:xfrm>
        </p:grpSpPr>
        <p:pic>
          <p:nvPicPr>
            <p:cNvPr id="246" name="" descr=""/>
            <p:cNvPicPr/>
            <p:nvPr/>
          </p:nvPicPr>
          <p:blipFill>
            <a:blip r:embed="rId4"/>
            <a:stretch/>
          </p:blipFill>
          <p:spPr>
            <a:xfrm>
              <a:off x="147600" y="3560760"/>
              <a:ext cx="174780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236520" y="3649680"/>
              <a:ext cx="165744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8º Considerando</a:t>
              </a: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2695680" y="1096920"/>
            <a:ext cx="6356160" cy="830160"/>
            <a:chOff x="2695680" y="1096920"/>
            <a:chExt cx="6356160" cy="830160"/>
          </a:xfrm>
        </p:grpSpPr>
        <p:pic>
          <p:nvPicPr>
            <p:cNvPr id="249" name="" descr=""/>
            <p:cNvPicPr/>
            <p:nvPr/>
          </p:nvPicPr>
          <p:blipFill>
            <a:blip r:embed="rId1"/>
            <a:stretch/>
          </p:blipFill>
          <p:spPr>
            <a:xfrm>
              <a:off x="2695680" y="1096920"/>
              <a:ext cx="635616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2784600" y="1187280"/>
              <a:ext cx="626580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rt. 1º Estabelecer modalidades, diretrizes e critérios gerais que regulamentem e estimulem a prática de reúso direto não potável de água em todo o território nacional.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2590920" y="2286000"/>
            <a:ext cx="6356160" cy="3595680"/>
            <a:chOff x="2590920" y="2286000"/>
            <a:chExt cx="6356160" cy="3595680"/>
          </a:xfrm>
        </p:grpSpPr>
        <p:pic>
          <p:nvPicPr>
            <p:cNvPr id="252" name="" descr=""/>
            <p:cNvPicPr/>
            <p:nvPr/>
          </p:nvPicPr>
          <p:blipFill>
            <a:blip r:embed="rId2"/>
            <a:stretch/>
          </p:blipFill>
          <p:spPr>
            <a:xfrm>
              <a:off x="2590920" y="2286000"/>
              <a:ext cx="6356160" cy="35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2679840" y="2376360"/>
              <a:ext cx="6265800" cy="34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rt. 2º Para efeito desta Resolução, são adotadas as seguintes definiçõe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"/>
                </a:rPr>
                <a:t>I - água residuária: esgoto, água descartada, efluentes líquidos de edificações, indústrias, agroindústrias e agropecuária, tratados ou não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"/>
                </a:rPr>
                <a:t>II - reúso de água: utilização de água residuária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"/>
                </a:rPr>
                <a:t>III - água de reúso: água residuária, que se encontra dentro dos padrões exigidos para sua utilização nas modalidades pretendidas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"/>
                </a:rPr>
                <a:t>IV - reúso direto de água: uso planejado de água de reuso, conduzida ao local de utilização, sem lançamento ou diluição prévia em corpos hídricos superficiais ou subterrâneos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V - produtor de água de reúso: pessoa física ou jurídica, de direito público ou privado, que produz água de reúso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VI - distribuidor de água de reúso: pessoa física ou jurídica, de direito público ou privado, que distribui água de reúso; 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VII - usuário de água de reúso: pessoa física ou jurídica, de direito público ou privado, que utiliza água de reús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 flipH="1">
            <a:off x="927000" y="1973160"/>
            <a:ext cx="46080" cy="3760920"/>
          </a:xfrm>
          <a:prstGeom prst="line">
            <a:avLst/>
          </a:prstGeom>
          <a:ln w="127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47600" y="1035000"/>
            <a:ext cx="1746360" cy="1196640"/>
            <a:chOff x="147600" y="1035000"/>
            <a:chExt cx="1746360" cy="1196640"/>
          </a:xfrm>
        </p:grpSpPr>
        <p:pic>
          <p:nvPicPr>
            <p:cNvPr id="256" name="" descr=""/>
            <p:cNvPicPr/>
            <p:nvPr/>
          </p:nvPicPr>
          <p:blipFill>
            <a:blip r:embed="rId3"/>
            <a:stretch/>
          </p:blipFill>
          <p:spPr>
            <a:xfrm>
              <a:off x="147600" y="1035000"/>
              <a:ext cx="1746360" cy="63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236160" y="1125000"/>
              <a:ext cx="1656000" cy="11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Aft>
                  <a:spcPts val="11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RESOLVE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1662120" y="1469880"/>
            <a:ext cx="166680" cy="1429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63640" y="1557360"/>
            <a:ext cx="863640" cy="144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63640" y="1557360"/>
            <a:ext cx="720720" cy="165564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 flipH="1">
            <a:off x="898560" y="2708280"/>
            <a:ext cx="46080" cy="3760920"/>
          </a:xfrm>
          <a:prstGeom prst="line">
            <a:avLst/>
          </a:prstGeom>
          <a:ln w="127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47600" y="1987560"/>
            <a:ext cx="1746360" cy="1196640"/>
            <a:chOff x="147600" y="1987560"/>
            <a:chExt cx="1746360" cy="1196640"/>
          </a:xfrm>
        </p:grpSpPr>
        <p:pic>
          <p:nvPicPr>
            <p:cNvPr id="263" name="" descr=""/>
            <p:cNvPicPr/>
            <p:nvPr/>
          </p:nvPicPr>
          <p:blipFill>
            <a:blip r:embed="rId1"/>
            <a:stretch/>
          </p:blipFill>
          <p:spPr>
            <a:xfrm>
              <a:off x="147600" y="1987560"/>
              <a:ext cx="1746360" cy="63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236160" y="2077560"/>
              <a:ext cx="1656000" cy="11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Aft>
                  <a:spcPts val="11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RESOLVE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2665440" y="685800"/>
            <a:ext cx="6356160" cy="4446720"/>
            <a:chOff x="2665440" y="685800"/>
            <a:chExt cx="6356160" cy="4446720"/>
          </a:xfrm>
        </p:grpSpPr>
        <p:pic>
          <p:nvPicPr>
            <p:cNvPr id="266" name="" descr=""/>
            <p:cNvPicPr/>
            <p:nvPr/>
          </p:nvPicPr>
          <p:blipFill>
            <a:blip r:embed="rId2"/>
            <a:stretch/>
          </p:blipFill>
          <p:spPr>
            <a:xfrm>
              <a:off x="2665440" y="685800"/>
              <a:ext cx="6356160" cy="44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2755800" y="774720"/>
              <a:ext cx="6265800" cy="43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rt. 3º O reúso direto não potável de água, para efeito desta Resolução, abrange as seguintes </a:t>
              </a:r>
              <a:r>
                <a:rPr b="1" lang="en-GB" sz="1400" spc="-1" strike="noStrike">
                  <a:solidFill>
                    <a:srgbClr val="3333cc"/>
                  </a:solidFill>
                  <a:latin typeface="Arial"/>
                </a:rPr>
                <a:t>modalidade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 - reúso para fins urbanos: utilização de água de reuso para fins de irrigação paisagística, lavagem de logradouros públicos e veículos, desobstrução de tubulações, construção civil, edificações, combate a incêndio, dentro da área urbana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"/>
                </a:rPr>
                <a:t>II - reúso para fins agrícolas e florestais: aplicação de água de reúso para produção agrícola e cultivo de florestas plantadas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II - reúso para fins ambientais: utilização de água de reúso para implantação de projetos de recuperação do meio ambiente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V - reúso para fins industriais: utilização de água de reuso em processos, atividades e operações industriais; 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"/>
                </a:rPr>
                <a:t>V - reúso na aqüicultura: utilização de água de reúso para a criação de animais ou cultivo de vegetais aquátic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§ 1</a:t>
              </a:r>
              <a:r>
                <a:rPr b="1" lang="en-GB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o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 As modalidades de reúso não são mutuamente excludentes, podendo mais de uma delas ser empregada simultaneamente em uma mesma áre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§ 2</a:t>
              </a:r>
              <a:r>
                <a:rPr b="1" lang="en-GB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o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 As diretrizes, critérios e parâmetros específicos para as modalidades de reúso definidas nos incisos deste artigo serão estabelecidos pelos órgãos competente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2644920" y="5362560"/>
            <a:ext cx="6392880" cy="1255680"/>
            <a:chOff x="2644920" y="5362560"/>
            <a:chExt cx="6392880" cy="1255680"/>
          </a:xfrm>
        </p:grpSpPr>
        <p:pic>
          <p:nvPicPr>
            <p:cNvPr id="269" name="" descr=""/>
            <p:cNvPicPr/>
            <p:nvPr/>
          </p:nvPicPr>
          <p:blipFill>
            <a:blip r:embed="rId3"/>
            <a:stretch/>
          </p:blipFill>
          <p:spPr>
            <a:xfrm>
              <a:off x="2644920" y="5362560"/>
              <a:ext cx="639288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2733840" y="5452920"/>
              <a:ext cx="6302160" cy="10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rt. 4º Os órgãos integrantes do SINGREH, no âmbito de suas respectivas competências, avaliarão os efeitos sobre os corpos hídricos decorrentes da prática do reúso, devendo estabelecer instrumentos regulatórios e de incentivo para as diversas modalidades de reús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1741320" y="2490840"/>
            <a:ext cx="743040" cy="315432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47720" y="2406600"/>
            <a:ext cx="166680" cy="1429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14680" y="2478240"/>
            <a:ext cx="841320" cy="144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 flipH="1">
            <a:off x="898200" y="1541520"/>
            <a:ext cx="65160" cy="4911840"/>
          </a:xfrm>
          <a:prstGeom prst="line">
            <a:avLst/>
          </a:prstGeom>
          <a:ln w="127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47600" y="879480"/>
            <a:ext cx="1746360" cy="1196640"/>
            <a:chOff x="147600" y="879480"/>
            <a:chExt cx="1746360" cy="1196640"/>
          </a:xfrm>
        </p:grpSpPr>
        <p:pic>
          <p:nvPicPr>
            <p:cNvPr id="276" name="" descr=""/>
            <p:cNvPicPr/>
            <p:nvPr/>
          </p:nvPicPr>
          <p:blipFill>
            <a:blip r:embed="rId1"/>
            <a:stretch/>
          </p:blipFill>
          <p:spPr>
            <a:xfrm>
              <a:off x="147600" y="879480"/>
              <a:ext cx="1746360" cy="63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236160" y="969480"/>
              <a:ext cx="1656000" cy="11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Aft>
                  <a:spcPts val="11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RESOLVE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665440" y="1809720"/>
            <a:ext cx="6356160" cy="1042920"/>
            <a:chOff x="2665440" y="1809720"/>
            <a:chExt cx="6356160" cy="1042920"/>
          </a:xfrm>
        </p:grpSpPr>
        <p:pic>
          <p:nvPicPr>
            <p:cNvPr id="279" name="" descr=""/>
            <p:cNvPicPr/>
            <p:nvPr/>
          </p:nvPicPr>
          <p:blipFill>
            <a:blip r:embed="rId2"/>
            <a:stretch/>
          </p:blipFill>
          <p:spPr>
            <a:xfrm>
              <a:off x="2665440" y="1809720"/>
              <a:ext cx="635616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2755800" y="1900080"/>
              <a:ext cx="62658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rt. 6º Os Planos de Recursos Hídricos, observado o exposto no art. 7º, inc. IV, da Lei n° 9.433, de 1997, deverão contemplar, entre os estudos e alternativas, a utilização de águas de reúso e seus efeitos sobre a disponibilidade hídric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644920" y="2898720"/>
            <a:ext cx="6392880" cy="1042920"/>
            <a:chOff x="2644920" y="2898720"/>
            <a:chExt cx="6392880" cy="1042920"/>
          </a:xfrm>
        </p:grpSpPr>
        <p:pic>
          <p:nvPicPr>
            <p:cNvPr id="282" name="" descr=""/>
            <p:cNvPicPr/>
            <p:nvPr/>
          </p:nvPicPr>
          <p:blipFill>
            <a:blip r:embed="rId3"/>
            <a:stretch/>
          </p:blipFill>
          <p:spPr>
            <a:xfrm>
              <a:off x="2644920" y="2898720"/>
              <a:ext cx="63928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2733840" y="2987640"/>
              <a:ext cx="63021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rt. 7º Os Sistemas de Informações sobre Recursos Hídricos deverão incorporar, organizar e tornar disponíveis as informações sobre as práticas de reúso necessárias para o gerenciamento dos recursos hídric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657520" y="3994200"/>
            <a:ext cx="6392880" cy="2531880"/>
            <a:chOff x="2657520" y="3994200"/>
            <a:chExt cx="6392880" cy="2531880"/>
          </a:xfrm>
        </p:grpSpPr>
        <p:pic>
          <p:nvPicPr>
            <p:cNvPr id="285" name="" descr=""/>
            <p:cNvPicPr/>
            <p:nvPr/>
          </p:nvPicPr>
          <p:blipFill>
            <a:blip r:embed="rId4"/>
            <a:stretch/>
          </p:blipFill>
          <p:spPr>
            <a:xfrm>
              <a:off x="2657520" y="3994200"/>
              <a:ext cx="6392880" cy="25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2747880" y="4083120"/>
              <a:ext cx="6302520" cy="242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rt. 8º Os Comitês de Bacia Hidrográfica deverã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 – considerar, na proposição dos mecanismos de cobrança e aplicação dos recursos da cobrança, a criação de incentivos para a prática de reúso; 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I - integrar, no âmbito do Plano de Recursos Hídricos da bacia, a prática de reúso com as ações de saneamento ambiental e de uso e ocupação do solo na bacia hidrográfic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Parágrafo único. Nos casos onde não houver Comitês de Bacia Hidrográfica instalados, a responsabilidade caberá ao órgão gestor de recursos hídricos, em conformidade com o previsto na legislação pertinent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1763640" y="1325520"/>
            <a:ext cx="720720" cy="86364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55720" y="1343160"/>
            <a:ext cx="728640" cy="221436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668600" y="1311120"/>
            <a:ext cx="166680" cy="1429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1735200" y="1179000"/>
            <a:ext cx="820800" cy="20484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720800" y="1373040"/>
            <a:ext cx="835200" cy="463248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644920" y="685800"/>
            <a:ext cx="6392880" cy="1042920"/>
            <a:chOff x="2644920" y="685800"/>
            <a:chExt cx="6392880" cy="1042920"/>
          </a:xfrm>
        </p:grpSpPr>
        <p:pic>
          <p:nvPicPr>
            <p:cNvPr id="293" name="" descr=""/>
            <p:cNvPicPr/>
            <p:nvPr/>
          </p:nvPicPr>
          <p:blipFill>
            <a:blip r:embed="rId5"/>
            <a:stretch/>
          </p:blipFill>
          <p:spPr>
            <a:xfrm>
              <a:off x="2644920" y="685800"/>
              <a:ext cx="63928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2733840" y="776160"/>
              <a:ext cx="63021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rt. 5º Caso a atividade de reúso implique alteração das condições das outorgas vigentes, o outorgado deverá solicitar à autoridade competente retificação da outorga de direito de uso de recursos hídricos de modo a compatibilizá-la com estas alteraçõe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 flipH="1">
            <a:off x="898200" y="2421000"/>
            <a:ext cx="49320" cy="4048200"/>
          </a:xfrm>
          <a:prstGeom prst="line">
            <a:avLst/>
          </a:prstGeom>
          <a:ln w="127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47600" y="1573200"/>
            <a:ext cx="1746360" cy="1195200"/>
            <a:chOff x="147600" y="1573200"/>
            <a:chExt cx="1746360" cy="1195200"/>
          </a:xfrm>
        </p:grpSpPr>
        <p:pic>
          <p:nvPicPr>
            <p:cNvPr id="297" name="" descr=""/>
            <p:cNvPicPr/>
            <p:nvPr/>
          </p:nvPicPr>
          <p:blipFill>
            <a:blip r:embed="rId1"/>
            <a:stretch/>
          </p:blipFill>
          <p:spPr>
            <a:xfrm>
              <a:off x="147600" y="1573200"/>
              <a:ext cx="1746360" cy="63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236160" y="1661760"/>
              <a:ext cx="1656000" cy="11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Aft>
                  <a:spcPts val="11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RESOLVE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2611440" y="4618080"/>
            <a:ext cx="6392880" cy="1042920"/>
            <a:chOff x="2611440" y="4618080"/>
            <a:chExt cx="6392880" cy="1042920"/>
          </a:xfrm>
        </p:grpSpPr>
        <p:pic>
          <p:nvPicPr>
            <p:cNvPr id="300" name="" descr=""/>
            <p:cNvPicPr/>
            <p:nvPr/>
          </p:nvPicPr>
          <p:blipFill>
            <a:blip r:embed="rId2"/>
            <a:stretch/>
          </p:blipFill>
          <p:spPr>
            <a:xfrm>
              <a:off x="2611440" y="4618080"/>
              <a:ext cx="63928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2700360" y="4708440"/>
              <a:ext cx="63025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rt. 11º O disposto nesta Resolução não exime o produtor, o distribuidor e o usuário da água de reúso direto não potável da respectiva licença ambiental, quando exigida, assim como do cumprimento das demais obrigações legais pertinentes.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1763640" y="2060640"/>
            <a:ext cx="720720" cy="143964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692360" y="1989000"/>
            <a:ext cx="166680" cy="1429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763640" y="1987560"/>
            <a:ext cx="792360" cy="6048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763640" y="2060640"/>
            <a:ext cx="720720" cy="280836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611440" y="3421080"/>
            <a:ext cx="6392880" cy="830160"/>
            <a:chOff x="2611440" y="3421080"/>
            <a:chExt cx="6392880" cy="830160"/>
          </a:xfrm>
        </p:grpSpPr>
        <p:pic>
          <p:nvPicPr>
            <p:cNvPr id="307" name="" descr=""/>
            <p:cNvPicPr/>
            <p:nvPr/>
          </p:nvPicPr>
          <p:blipFill>
            <a:blip r:embed="rId3"/>
            <a:stretch/>
          </p:blipFill>
          <p:spPr>
            <a:xfrm>
              <a:off x="2611440" y="3421080"/>
              <a:ext cx="639288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2700360" y="3511440"/>
              <a:ext cx="630252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rt. 10º Deverão ser incentivados e promovidos programas de capacitação, mobilização social e informação quanto à sustentabilidade do reúso, em especial os aspectos sanitários e ambientai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2649600" y="1247760"/>
            <a:ext cx="6392880" cy="1893960"/>
            <a:chOff x="2649600" y="1247760"/>
            <a:chExt cx="6392880" cy="1893960"/>
          </a:xfrm>
        </p:grpSpPr>
        <p:pic>
          <p:nvPicPr>
            <p:cNvPr id="310" name="" descr=""/>
            <p:cNvPicPr/>
            <p:nvPr/>
          </p:nvPicPr>
          <p:blipFill>
            <a:blip r:embed="rId4"/>
            <a:stretch/>
          </p:blipFill>
          <p:spPr>
            <a:xfrm>
              <a:off x="2649600" y="1247760"/>
              <a:ext cx="6392880" cy="18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2738520" y="1336680"/>
              <a:ext cx="6302160" cy="17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rt. 9º A atividade de reúso de água deverá ser informada, quando requerida, ao órgão gestor de recursos hídricos, para fins de cadastro, devendo contemplar, no mínim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 - identificação do produtor, distribuidor ou usuário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I - localização geográfica da origem e destinação da água de reúso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II - especificação da finalidade da produção e do reúso de água; 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V - vazão e volume diário de água de reúso produzida, distribuída ou utilizad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metrios</cp:lastModifiedBy>
  <dcterms:modified xsi:type="dcterms:W3CDTF">2006-11-27T21:55:4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